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86650-9861-433A-9B48-3F24FC405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197E8-F88C-45B0-9DBB-70EB1A9AC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4A055-C9E6-414F-AE0A-51E9575A1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FE0F8-4A79-4BBD-A1CC-70DAB5FD6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B4F39-DCBF-42AA-9FB4-225780791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ED4D1-283E-4380-880F-2942FE937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5D705-2191-4F98-8C01-0227C8271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A2F8E-85F6-4541-99D9-28F15FFE6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39A4B-9223-4078-843A-71EC059FE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A5835-459B-43E4-B562-07E42B71A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DFF25-3C0D-47C7-BF12-16B07A87F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6E6BD-757A-47CE-8026-C67650798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FAAF7-2945-4AED-BBFF-71F3B01BF4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This is a test fi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Dies ist eine Testdate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1T11:35:40Z</dcterms:created>
  <dc:creator> </dc:creator>
  <dc:description/>
  <dc:language>en-US</dc:language>
  <cp:lastModifiedBy> </cp:lastModifiedBy>
  <dcterms:modified xsi:type="dcterms:W3CDTF">2003-11-01T11:37:16Z</dcterms:modified>
  <cp:revision>3</cp:revision>
  <dc:subject/>
  <dc:title>Folie 1</dc:title>
</cp:coreProperties>
</file>